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8D1-8C8A-4A19-A8E4-6A3FF756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4CB-021F-46D0-90DB-D3A2AEE3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DE7-42CA-4676-BF1A-066CD63C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DF05-1D75-4632-A47D-95DDA8524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8096-DF4C-48B1-AB5E-C3275109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A923-530C-4FF7-A516-D2B60C40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F487-9399-4CE5-865F-19AE862A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DB20-EAC4-4783-A26B-E95278A7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D30E-F8FA-4758-A263-5284A01F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D38-D977-400A-B096-4B9AE1F6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F63-B93C-426B-858F-7D16594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9867-FD36-4CC7-A3E9-C34E63E2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6D93-6F8B-41AA-BD30-51F3E519F70D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US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361960"/>
            <a:ext cx="70102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Jerry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Kick off workshop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Minion"/>
              </a:rPr>
              <a:t>Agenda</a:t>
            </a:r>
            <a:endParaRPr b="1" lang="en-US" sz="7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4" name=""/>
          <p:cNvSpPr/>
          <p:nvPr/>
        </p:nvSpPr>
        <p:spPr>
          <a:xfrm>
            <a:off x="409680" y="4981680"/>
            <a:ext cx="4572000" cy="128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Lars Bonde, XinJuan Song, Arjen Broe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2-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econdition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oject setup (handover timeline preferences) per department agreed (detailed handover planning will be discussed in the workshop) (week 6)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W estimation finished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lanning for “Work” is determined by SW, HW and S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Primavera access for all PPLs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Monday 13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0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Introduction / background (Koh Kheng Wah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0:30 – 11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Jerry way forward (Dirk Didascalou – 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00 – 11:15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Current project setup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rganisation – Set-up BEJ and AAL –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ommunication scenarios, mailing lists PL-T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1:15 – 12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ject status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HW/MD/ID – Aalborg – H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tatus SW – Beijing – SW-PPL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13:30 – 17:0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Define process (tailoring) – Thomas Bartel, Brian Mortensen (WJB 6121, 6909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Milestones for HW/SW/ST (Scrum?? – How to implement in the system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Synchronization point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08440" indent="-2214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Define key activities (must have) for each milestones and nice to have’s (based on MEP 7.02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Tuesday 14.02.06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plit in 3 main groups:  HW/MD/PE, SW and S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W: define work packages, feasibility study, IM scenario, contractors, contracts, Scrumm milestone approach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Detailed schedule in separate file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3a0e66"/>
                </a:solidFill>
                <a:latin typeface="Minion"/>
              </a:rPr>
              <a:t>Location: WJ-C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HW/MD/PE: </a:t>
            </a: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eview stack-up concept, mechanical design, layout, part list, BOM, suppliers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will be determined on Mon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 WJ-B 6121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3a0e66"/>
                </a:solidFill>
                <a:latin typeface="Minion"/>
              </a:rPr>
              <a:t>ST: HW performance test, TA, Cradle/fixture, Test spec, R&amp;D support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chedule in next slides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a0e66"/>
              </a:buClr>
              <a:buFont typeface="Minio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Location: WJ-B 6909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6:00 – 17:00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ototype shops (LCM1 &amp; 3) (WJB 6126)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efine which prototype runs take place where / define handover (TELCO with KlF)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ST schedule Tuesday (WJ-B 6909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Schedule (TA) review and calcula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2:00-13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3:00-15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plan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Workload distribute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00-15:1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	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5:10-17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31480" indent="-226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R&amp;D support  and Cradle / Fixture prepare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宋体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0e66"/>
                </a:solidFill>
                <a:latin typeface="Minion"/>
              </a:rPr>
              <a:t>ST schedule Wednesday (WJ-B 6909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09:00-10:3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st spec review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30-10:4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ea break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4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10:40-12:00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&amp;D support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0e66"/>
                </a:solidFill>
                <a:latin typeface="Minion"/>
              </a:rPr>
              <a:t>Wednesday 15.02.06</a:t>
            </a:r>
            <a:endParaRPr b="0" lang="en-US" sz="4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ontinue with work started on Tuesday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14:30 – 17:00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2400" spc="-1" strike="noStrike">
                <a:solidFill>
                  <a:srgbClr val="3a0e66"/>
                </a:solidFill>
                <a:latin typeface="Minion"/>
              </a:rPr>
              <a:t>Create handover planning (PPL)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601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3a0e66"/>
                </a:solidFill>
                <a:latin typeface="Minion"/>
              </a:rPr>
              <a:t>Detailed steps</a:t>
            </a: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3a0e66"/>
                </a:solidFill>
                <a:latin typeface="Minion"/>
              </a:rPr>
              <a:t>MD and PE will visit Perlos in BEJ all day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Agend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a0e66"/>
                </a:solidFill>
                <a:latin typeface="Minion"/>
              </a:rPr>
              <a:t>Thursday 16.02.06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00 – 9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Summary Wednesday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9:30 – 10:30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600" spc="-1" strike="noStrike">
                <a:solidFill>
                  <a:srgbClr val="3a0e66"/>
                </a:solidFill>
                <a:latin typeface="Minion"/>
              </a:rPr>
              <a:t>Product clearing (Zeng Yun) (WJB 6121)</a:t>
            </a:r>
            <a:endParaRPr b="0" lang="en-US" sz="16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Attendees PL-T, CPM, TPM, PL-SW, PL-MD, PL-HW, PL-BB, PL-LPD, PL-RF, PL-EA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9:00 – 12:0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Project planning per department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planning per department and define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nput planning in PV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2:00 – 13:3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Lunch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13:30 – 16:00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Optimize planning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Based on input from work-days and dependenc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Create committed milestone planning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Visit in BEJ office from keypad suppliers for MD and PE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16:00 - 17:30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0" lang="en-US" sz="1400" spc="-1" strike="noStrike">
                <a:solidFill>
                  <a:srgbClr val="3a0e66"/>
                </a:solidFill>
                <a:latin typeface="Minion"/>
              </a:rPr>
              <a:t>Conclusion (PL-T)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Identify open action items and plan activities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a0e66"/>
              </a:buClr>
              <a:buFont typeface="Minio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3a0e66"/>
                </a:solidFill>
                <a:latin typeface="Minion"/>
              </a:rPr>
              <a:t>How far are we from S0/M1?</a:t>
            </a:r>
            <a:endParaRPr b="0" lang="en-US" sz="14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Xinbing Mao</dc:creator>
  <dc:description/>
  <dc:language>en-US</dc:language>
  <cp:lastModifiedBy>Benq</cp:lastModifiedBy>
  <dcterms:modified xsi:type="dcterms:W3CDTF">2006-02-15T09:05:02Z</dcterms:modified>
  <cp:revision>120</cp:revision>
  <dc:subject/>
  <dc:title>PowerPoint</dc:title>
</cp:coreProperties>
</file>